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EA3-92CB-4E02-B360-54BB1FF5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B1F-5A42-4AFC-9DA7-3DEF5FB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8D9-441B-4D80-B13B-61743B6F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8A7-2BC3-43BD-9ED4-D6F3EFCC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CAC-A732-4144-95EE-A99CF41A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5A2-9AE2-46DF-910F-C8CA85F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2C7-E805-4425-852B-E2609253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F6D-E764-449F-AA1C-FB94D33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BF7-4421-4052-86CA-1DE9D0E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99A-7A08-477C-8F50-F7D82DB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8AB-7DDC-43FF-80C2-7A408C2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593-2C5F-4146-BDBE-C2CF31D5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E80-E9F5-4BCD-8D3D-F61553614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e701"/>
                </a:solidFill>
                <a:latin typeface="Times New Roman"/>
              </a:rPr>
              <a:t>EVOLUTION OF PHOTOSYNTHESIS &amp; AEROBIC RESPIRA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. Grier S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al Candidate in B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SF GK12 Fel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l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images-8.jpeg"/>
          <p:cNvPicPr/>
          <p:nvPr/>
        </p:nvPicPr>
        <p:blipFill>
          <a:blip r:embed="rId1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The Oxygen Revolution: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Earth w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ste produ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new type of photosynthesis invented b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anobacter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xygen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hotosynthe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caused formation of oxidized compounds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nded iron form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or “rusty rocks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gen first dissolved in the oceans, then accumulated in the atmosphere - it currently makes up 21% of the 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01"/>
                </a:solidFill>
                <a:latin typeface="Times New Roman"/>
              </a:rPr>
              <a:t>Gradual Increase in Atmospheric O</a:t>
            </a:r>
            <a:r>
              <a:rPr b="1" lang="en-US" sz="3600" spc="-1" strike="noStrike" baseline="-25000">
                <a:solidFill>
                  <a:srgbClr val="ffe701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e701"/>
                </a:solidFill>
                <a:latin typeface="Times New Roman"/>
              </a:rPr>
              <a:t>: </a:t>
            </a:r>
            <a:r>
              <a:rPr b="1" lang="en-US" sz="1000" spc="-1" strike="noStrike">
                <a:solidFill>
                  <a:srgbClr val="ffe701"/>
                </a:solidFill>
                <a:latin typeface="Times New Roman"/>
              </a:rPr>
              <a:t>http://www3.ncc.edu/faculty/bio/fanellis/biosci119/marineorg.html</a:t>
            </a:r>
            <a:endParaRPr b="0" lang="en-US" sz="1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Content Placeholder 8" descr="1501oxygen-history.jpg"/>
          <p:cNvPicPr/>
          <p:nvPr/>
        </p:nvPicPr>
        <p:blipFill>
          <a:blip r:embed="rId1"/>
          <a:srcRect l="-35186" t="0" r="-35186" b="0"/>
          <a:stretch/>
        </p:blipFill>
        <p:spPr>
          <a:xfrm>
            <a:off x="60948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01"/>
                </a:solidFill>
                <a:latin typeface="Times New Roman"/>
              </a:rPr>
              <a:t>Banded Iron Formation: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c. 2400 mya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ed by the oxidation of iron, forming rust</a:t>
            </a:r>
            <a:br>
              <a:rPr sz="28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http://rst.gsfc.nasa.gov/Sect19/Sect19_2a.html</a:t>
            </a:r>
            <a:endParaRPr b="0" lang="en-US" sz="1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9" name="Picture 8" descr="&#13;images-8.jpeg                                                  00684EA7_x000c_Macintosh HD                   7C262FC3: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701"/>
                </a:solidFill>
                <a:latin typeface="Times New Roman"/>
              </a:rPr>
              <a:t>Consequences of Oxygen in the Environment: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ss exti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naerobic prokaryotes, for whom it is tox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evolut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bacteria possible (later, some of these oxygen-respiring bacteria were eaten by eukaryotes, and beca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tochondr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erobic bacteria were very successful, since aerobic respir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duces much more AT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n anaerobic bacteria can p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cknowledgements: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le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as Teachers / Teachers as Scientists Progra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tional Science Foundation GK12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References: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kowski, P.G.&amp; Raven, J.A. (2007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) Aquatic Photosynthesi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nceton, NJ: Princeton University Pr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ll, A.H. (200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fe on a Young Planet: The First Three Billion Years of Evolution on Earth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nceton, NJ: Princeton University Pr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gulis, L. (1993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ymbiosis in Cell Evolution: Microbial Communities in the Archean &amp; Proterozoic E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ew York, NY: W.H. Freeman &amp; 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gulis, L. &amp; Dolan, M.F. (2002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arly Life: Evolution on the Precambrian Ear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Sudbury, MA: Jones &amp; Bartlett Publis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Times New Roman"/>
              </a:rPr>
              <a:t>History of the Earth: Four Eons: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dean E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500 - 3800 millions of years ago (mya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ean E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00 - 2500 m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rozoic E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00 - 542 m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nerozoic E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42 mya -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imes New Roman"/>
              </a:rPr>
              <a:t>http://en.wikipedia.org/wiki/Geologic_time_scale</a:t>
            </a:r>
            <a:endParaRPr b="0" lang="en-US" sz="1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828800" y="1278000"/>
            <a:ext cx="56386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Hadean Eon: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ts first billion years, the Earth’s surface was molten r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too hot for life to exist or to origi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030" descr="&#13;images-1.jpeg                                                  00684EA7_x000c_Macintosh HD                   7C262FC3:"/>
          <p:cNvPicPr/>
          <p:nvPr/>
        </p:nvPicPr>
        <p:blipFill>
          <a:blip r:embed="rId1"/>
          <a:stretch/>
        </p:blipFill>
        <p:spPr>
          <a:xfrm>
            <a:off x="4921200" y="1981080"/>
            <a:ext cx="326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Archean Eon: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: American Museum of Natural History)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karyot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fe originat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on after Earth cooled and oceans were 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th w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ox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synthetic bacteria, includ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yanobacteri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ved (bumps are “stromatolites”, made by th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030" descr="&#13;images-2.jpeg                                                  001E4468_x000c_Macintosh HD                   7C262FC3:"/>
          <p:cNvPicPr/>
          <p:nvPr/>
        </p:nvPicPr>
        <p:blipFill>
          <a:blip r:embed="rId1"/>
          <a:stretch/>
        </p:blipFill>
        <p:spPr>
          <a:xfrm>
            <a:off x="152280" y="2617920"/>
            <a:ext cx="44960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Photosynthetic Bacteria: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hotosynthetic bacteria (such as green sulfur bacteria) use Hydrogen sulfide 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) &amp; do not produce oxyg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e701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S + CO</a:t>
            </a:r>
            <a:r>
              <a:rPr b="0" lang="en-US" sz="3200" spc="-1" strike="noStrike" baseline="-25000">
                <a:solidFill>
                  <a:srgbClr val="ffe701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 + Light --&gt; Sugars + Sulf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yanobacter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&amp; in eukaryotes, chloroplasts) use water instead, &amp; produce oxyg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e701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O + CO</a:t>
            </a:r>
            <a:r>
              <a:rPr b="0" lang="en-US" sz="3200" spc="-1" strike="noStrike" baseline="-25000">
                <a:solidFill>
                  <a:srgbClr val="ffe701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 + Light --&gt; Sugars + O</a:t>
            </a:r>
            <a:r>
              <a:rPr b="0" lang="en-US" sz="3200" spc="-1" strike="noStrike" baseline="-25000">
                <a:solidFill>
                  <a:srgbClr val="ffe70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Cyanobacteria: </a:t>
            </a:r>
            <a:br>
              <a:rPr sz="4400"/>
            </a:br>
            <a:r>
              <a:rPr b="1" lang="en-US" sz="1400" spc="-1" strike="noStrike">
                <a:solidFill>
                  <a:srgbClr val="ffe701"/>
                </a:solidFill>
                <a:latin typeface="Times New Roman"/>
              </a:rPr>
              <a:t>http://universe-review.ca/F11-monocell.htm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7" name="Picture 1032" descr="&#13;images-4.jpeg                                                  001E4468_x000c_Macintosh HD                   7C262FC3:"/>
          <p:cNvPicPr/>
          <p:nvPr/>
        </p:nvPicPr>
        <p:blipFill>
          <a:blip r:embed="rId1"/>
          <a:stretch/>
        </p:blipFill>
        <p:spPr>
          <a:xfrm>
            <a:off x="1600200" y="1650960"/>
            <a:ext cx="57913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Times New Roman"/>
              </a:rPr>
              <a:t>Key Dates in the Early Evolution of Life: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igin of Lif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 first prokaryotes) c. 3800 m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igin of Photosynthe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3500 mya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igi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xygen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hotosynthe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ldest cyanobacterial fossils) c. 2900 my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igi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erob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spi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2400 mya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igin of Eukaryo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 first protist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2000 m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Times New Roman"/>
              </a:rPr>
              <a:t>Oxygen Terminology: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cking oxygen i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ox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erob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lives without oxygen (many are killed by oxyge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taining oxygen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xi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erob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requires oxygen to liv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21:52:54Z</dcterms:created>
  <dc:creator>C. Grier Sellers</dc:creator>
  <dc:description/>
  <dc:language>en-US</dc:language>
  <cp:lastModifiedBy>Robert Matthew Sullivan</cp:lastModifiedBy>
  <dcterms:modified xsi:type="dcterms:W3CDTF">2011-01-03T17:22:04Z</dcterms:modified>
  <cp:revision>45</cp:revision>
  <dc:subject/>
  <dc:title>EVOLUTION OF PHOTOSYNTHESIS &amp; AEROBIC RESPIRATION</dc:title>
</cp:coreProperties>
</file>